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2045-BF4C-45D1-9DB9-24862E02F4DC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3) Implementation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arly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data structures: typically C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ing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ma specific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nien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ma specific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ter (schema not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te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standard library functions: typically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t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ic schema independent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le co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technology in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er (schema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han one schema can be ac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ipulation: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pository contains live STE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“some form of” DM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“is defining” a standard API for manipulating such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Data Access Interface (SDAI) - Part 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us language bindings e.g. C and C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ata Manipulation: SDA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yet fully standard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versions imple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SDAI is strongly recomm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data access/mani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toolkit as market devel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essential for Basic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for open direct access to a PM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me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-Tools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T Develo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M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D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aseL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DTech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C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IS Tool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Generic and Tailored vers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981080"/>
            <a:ext cx="8153280" cy="3124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835360"/>
          <a:ext cx="7848720" cy="14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35360"/>
                    <a:ext cx="78487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steptools.com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of software development tools which handle the complexities of the STEP stand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gration with existing CAD tools and databases, cross-platform portabi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itment to meeting new STEP standa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514600"/>
            <a:ext cx="862668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vides SDAI C and ROSE C++ programming libraries that can be used to build software that works with STEP data in object-oriented databases, relational databases and traditional fi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600200"/>
          <a:ext cx="7391160" cy="51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3911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and on the role of STEP implementation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dentify some candidat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, EXPRESS-G, EXPRESS-X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 and EXPRESS-X compil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enerate C++ classes, SDAI data-dictionaries, IDL descriptions, and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X Mapping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map changes between information model in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G too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tructs diagrams from any EXPRESS information model and display/rearrange using a graphical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905120"/>
            <a:ext cx="8686800" cy="34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8229600" cy="1144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86240" y="449568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pmtech.jotne.com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developerS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rehensive package of tools for application developers, system integrators, data model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visual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RESS-G based tool for creating and visualising data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onve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s EXPRESS-X to convert data from one EXPRESS schema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hec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s a data set against one or more EXPRESS schem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M database designed for storing and manipulating data modelled in EXPR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lly supports (and significantly expands) the scope of SDA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ctions for database supervision and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ables multi-user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used as a linkable libr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 and JAVA late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++ early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DAI repository can be persistent or trans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ad and write Part 21 fi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 to validate schema (results stored as dictionary mod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AI fully compatible with the standar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schema and data can be presented in HTML for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81080" y="1600200"/>
          <a:ext cx="5105520" cy="478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00200"/>
                    <a:ext cx="510552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EP caselib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2720" y="358128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prostep.de/ps_e_welcome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343400"/>
            <a:ext cx="2286000" cy="22096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PDTec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RESS, EXPRESS-C, and EXPRESS-X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te efficient applications out of these specification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ESS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cute EXPRESS and EXPRESS-C specif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functional and/or object-oriented program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ta adap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traint check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y verify data against EXP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XPRESS-X engin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eclarative mapping (latest EXPRESS-X specific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P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nect to your application with Java, Tcl, C++, C, Visual Basic, etc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utility librari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gh level functions significantly reduce the programming effor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U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ccess to all components of the Toolki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cludes editor, instance explorer, integrated instance editor, project manager.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ebugg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races EXPRESS, EXPRESS-C, and EXPRESS-X based application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Validate the semantical correctness of EXPRESS integrity constrai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6626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 Toolbo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an CIS interface which can easily be integrated into an appli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data to be managed natively, with import or export as STEP files that conform to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++ class libraries generated from the CIS/2 sch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raries provide an API to the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uroste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ic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S Toolbox v1.0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2500 E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olboxes for other schemas by requ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inSTEP (free!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81080"/>
            <a:ext cx="748368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rsion 3.0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arch 1998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based on NIST class libra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collection of tools dealing with STEP (EXPRESS) running on top of Wind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lete integration within Windows 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ewing, editing, printing etc. of EXPRESS f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ntax checking by fedex par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++ code generation from EXPRESS by fedex_pl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ML generation from EXPRESS by exp2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University of the Federal Armed Forces, Mun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67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70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78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81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84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85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  <a:ea typeface="Times New Roman"/>
              </a:rPr>
              <a:t>EXPRESS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Modelling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nguage sensitive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syntax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suali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pically EXPRESS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STEP Implementation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file 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Mani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itory and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029200"/>
            <a:ext cx="7620120" cy="10688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ch tools allow reliable translators to be implemented quickly and more cheaply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EXPRESS Compil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ugging and documentation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rt for IS version of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, INVERSE, and UNIQUE suppor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es code for incorpo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Part 21 File Pars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full support for the current STEP Part 21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 with EXPRESS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en by comp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or a compiler library to read and to write conforming STEP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lastair Watson</cp:lastModifiedBy>
  <cp:lastPrinted>1999-06-19T15:36:00Z</cp:lastPrinted>
  <dcterms:modified xsi:type="dcterms:W3CDTF">2000-04-01T21:27:38Z</dcterms:modified>
  <cp:revision>23</cp:revision>
  <dc:subject/>
  <dc:title>CIS/2  Implementation Workshop</dc:title>
</cp:coreProperties>
</file>